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F894-2147-4173-961C-FCACA4F7A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F41E-BD3D-4C97-8DC5-8DF168B84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E701-4059-40C5-9D39-8A113D7C1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CF1D-67DC-48DA-B058-DB1A5D56A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F3467-0DE6-4BBA-9AD9-EBD0908B3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3C3CC-D3C3-4B3F-A5F1-2CA6DAF6C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8DEFB-E195-49FE-A392-DF9207F6B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B7C9F-AD43-4F24-A126-828E8C053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B38D2-290D-4900-9E47-E0CF63CC9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83BEF-4BC2-433E-A79F-710ACF480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46981-3836-4602-818B-F088E56BA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5E13-3413-4B49-9C6E-6F885D4C9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8EF01-9658-492F-805B-782E2BFCB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4970D-2088-48CF-ABFC-C3F033066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6D388-D005-4BB2-90AD-907326A10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60B3D-C452-48A0-8855-AE3577845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FAF76-2346-42B4-B654-2B3BF21BB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764E-6A55-4E05-B183-65CBF2928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3960-4E52-440C-A15B-9084FEAB2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8B0E-8CAC-49A1-968F-12D956E04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AF1F-D18F-4756-A320-22BF6E64A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C45C-20C7-4022-A905-376DF4691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42CF-547F-4FA6-8BB8-BEE80C559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B8E6-834D-46F5-A7EC-6D78BA48F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7DCA0-E745-4DB3-8A9C-9088222A220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C7533-986A-4B92-9908-BF5C345A9CB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26792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10</a:t>
            </a: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장 의사소통장애아 교육</a:t>
            </a: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기초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호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아이디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속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삶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기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공명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두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순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준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어 기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미의 전달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초분절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주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음성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몸짓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얼굴표정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구성요소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form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content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us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사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hon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 체계의 규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분절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morph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독립과 종속 형태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yntax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의 배열 규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emantic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의 관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건 사이의 관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agmatics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의 사용 규칙과 방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의사소통 장애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발성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 및 음운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창성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완대체 의사소통 체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Bliss Symbo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692360" y="1700280"/>
            <a:ext cx="568800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20:36:39Z</dcterms:created>
  <dc:creator>.</dc:creator>
  <dc:description/>
  <dc:language>en-US</dc:language>
  <cp:lastModifiedBy>f</cp:lastModifiedBy>
  <dcterms:modified xsi:type="dcterms:W3CDTF">2007-05-17T01:21:41Z</dcterms:modified>
  <cp:revision>25</cp:revision>
  <dc:subject/>
  <dc:title>제 10장 중복장애 </dc:title>
</cp:coreProperties>
</file>